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BE4-ECC8-414A-B824-98421F73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9FDB-DFFB-4257-A447-FEE82BA55C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0FC-78C0-4F1F-AE75-ADD0579C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E7-FDB2-4FDF-8AB6-03B539A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93C-76E9-4B71-8152-D7814554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E80-C313-4017-AC71-1CFAC062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CD1-E7FE-4EE7-8BCF-D2AEC4B3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F54-992A-4CB5-B914-2A49D76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4622-7598-462D-906A-CD2E53F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89D2-A064-4DBB-8CCF-644BDED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5AB-5B45-449E-AB68-59B7B14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8E88-B28D-49F2-AC54-3831C9C4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079B-A516-4038-AD36-50A5DDA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828-DDBE-430A-9E97-09F6FE5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576-AD98-48BF-9740-10C2A7E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4D8-5F64-4AB0-B180-A62E423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947B-71EA-43EE-86C7-96A10EB6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B6E-CC4D-476E-B1AA-1FB12D6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184-608D-411A-9C18-B45A8A18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149-CFF3-40C5-AABB-C957374B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561-5927-400B-AB08-4B3F16E6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5B1-3FF9-424C-A453-3CFA93E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E6F-8D3E-4BFD-851F-584A198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285-ACE2-4BEC-8530-A47ADED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9EC-E582-4E32-93E3-5A9FD65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621-9435-4A09-BB91-66EB5D8B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871-EB41-49AA-B8F0-0C9E2702E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584-599F-4FDE-A478-55A352C2C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endicular Skeleton - Lim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 of lim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w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order Crossoptery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 Labyrinthodon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A variety of distal diversity of limbs in tetrapods."/>
          <p:cNvPicPr/>
          <p:nvPr/>
        </p:nvPicPr>
        <p:blipFill>
          <a:blip r:embed="rId1"/>
          <a:stretch/>
        </p:blipFill>
        <p:spPr>
          <a:xfrm>
            <a:off x="1177920" y="17640"/>
            <a:ext cx="67896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 Stru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erus – pectoral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ur – pelvic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p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us &amp; Ulna – pectoral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bia &amp; Fibula – pelvic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Generic tetrapod with pectoral and pelvic girdles and appendages."/>
          <p:cNvPicPr/>
          <p:nvPr/>
        </p:nvPicPr>
        <p:blipFill>
          <a:blip r:embed="rId1"/>
          <a:stretch/>
        </p:blipFill>
        <p:spPr>
          <a:xfrm>
            <a:off x="1440" y="496800"/>
            <a:ext cx="91411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ectoral girdle and appendage shown of a human, anterior view."/>
          <p:cNvPicPr/>
          <p:nvPr/>
        </p:nvPicPr>
        <p:blipFill>
          <a:blip r:embed="rId1"/>
          <a:stretch/>
        </p:blipFill>
        <p:spPr>
          <a:xfrm>
            <a:off x="2793960" y="11160"/>
            <a:ext cx="3556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elvic girdle and appendage of a human shown, anterior view."/>
          <p:cNvPicPr/>
          <p:nvPr/>
        </p:nvPicPr>
        <p:blipFill>
          <a:blip r:embed="rId1"/>
          <a:stretch/>
        </p:blipFill>
        <p:spPr>
          <a:xfrm>
            <a:off x="2793960" y="11160"/>
            <a:ext cx="3556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 Stru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op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pals in pectoral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sals in pelvic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p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carpals in pectoral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tarsal in pelvic append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l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es of the digits (fingers, toes, claws…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ctoral girdle and appendage shown of a human, anterior view."/>
          <p:cNvPicPr/>
          <p:nvPr/>
        </p:nvPicPr>
        <p:blipFill>
          <a:blip r:embed="rId1"/>
          <a:stretch/>
        </p:blipFill>
        <p:spPr>
          <a:xfrm>
            <a:off x="2793960" y="11160"/>
            <a:ext cx="3556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elvic girdle and appendage of a human shown, anterior view."/>
          <p:cNvPicPr/>
          <p:nvPr/>
        </p:nvPicPr>
        <p:blipFill>
          <a:blip r:embed="rId1"/>
          <a:stretch/>
        </p:blipFill>
        <p:spPr>
          <a:xfrm>
            <a:off x="2793960" y="11160"/>
            <a:ext cx="3556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 is forefoot or hand.  It includes mesopodium, metapodium, phal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 is hindfoot or foot.  It includes mesopodium, metapodium, phal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physis and Diaphysis are the Ends and Shaft of a long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ead of the femur shown with epiphysis at the end and diaphysis as the shaft."/>
          <p:cNvPicPr/>
          <p:nvPr/>
        </p:nvPicPr>
        <p:blipFill>
          <a:blip r:embed="rId1"/>
          <a:stretch/>
        </p:blipFill>
        <p:spPr>
          <a:xfrm>
            <a:off x="14400" y="1150920"/>
            <a:ext cx="9117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264280" y="2192400"/>
            <a:ext cx="3484440" cy="246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feb9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Transition to land</a:t>
            </a:r>
            <a:br>
              <a:rPr sz="3200"/>
            </a:b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(lobe fin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4" descr="Fleshy fins with large pterygiophores"/>
          <p:cNvPicPr/>
          <p:nvPr/>
        </p:nvPicPr>
        <p:blipFill>
          <a:blip r:embed="rId1"/>
          <a:stretch/>
        </p:blipFill>
        <p:spPr>
          <a:xfrm>
            <a:off x="1073160" y="1601640"/>
            <a:ext cx="3346560" cy="3918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udfish using fins as legs"/>
          <p:cNvPicPr/>
          <p:nvPr/>
        </p:nvPicPr>
        <p:blipFill>
          <a:blip r:embed="rId2"/>
          <a:stretch/>
        </p:blipFill>
        <p:spPr>
          <a:xfrm>
            <a:off x="5132520" y="215748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124600" y="2154240"/>
            <a:ext cx="3484440" cy="2325600"/>
          </a:xfrm>
          <a:prstGeom prst="rect">
            <a:avLst/>
          </a:prstGeom>
          <a:noFill/>
          <a:ln w="76320">
            <a:solidFill>
              <a:srgbClr val="ff0033"/>
            </a:solidFill>
            <a:miter/>
          </a:ln>
          <a:effectLst>
            <a:outerShdw dist="17819" dir="2700000" blurRad="0" rotWithShape="0">
              <a:srgbClr val="99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s - amphibia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marrow cavity makes blood in tetrap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s - Repti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s in Bi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 2 is long digit of 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langeal formula for foot is 2,3,4,5,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ones of the bird's pectoral appendage shown."/>
          <p:cNvPicPr/>
          <p:nvPr/>
        </p:nvPicPr>
        <p:blipFill>
          <a:blip r:embed="rId1"/>
          <a:stretch/>
        </p:blipFill>
        <p:spPr>
          <a:xfrm>
            <a:off x="1770120" y="2409840"/>
            <a:ext cx="4763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ird skeleton showing pectoral and pelvic appendages."/>
          <p:cNvPicPr/>
          <p:nvPr/>
        </p:nvPicPr>
        <p:blipFill>
          <a:blip r:embed="rId1"/>
          <a:stretch/>
        </p:blipFill>
        <p:spPr>
          <a:xfrm>
            <a:off x="3224160" y="987480"/>
            <a:ext cx="36352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mbs - mamm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langeal formula of 2,3,3,3,3 on human hands and f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prominent olecran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umerus of the cat."/>
          <p:cNvPicPr/>
          <p:nvPr/>
        </p:nvPicPr>
        <p:blipFill>
          <a:blip r:embed="rId1"/>
          <a:stretch/>
        </p:blipFill>
        <p:spPr>
          <a:xfrm>
            <a:off x="1071720" y="0"/>
            <a:ext cx="60912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Radius of the cat"/>
          <p:cNvPicPr/>
          <p:nvPr/>
        </p:nvPicPr>
        <p:blipFill>
          <a:blip r:embed="rId1"/>
          <a:stretch/>
        </p:blipFill>
        <p:spPr>
          <a:xfrm>
            <a:off x="2305080" y="0"/>
            <a:ext cx="455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Ulna of the cat"/>
          <p:cNvPicPr/>
          <p:nvPr/>
        </p:nvPicPr>
        <p:blipFill>
          <a:blip r:embed="rId1"/>
          <a:stretch/>
        </p:blipFill>
        <p:spPr>
          <a:xfrm>
            <a:off x="2133720" y="304920"/>
            <a:ext cx="4167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60912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leshy finned fish and early tetrapod have similar bone structure in appendages."/>
          <p:cNvPicPr/>
          <p:nvPr/>
        </p:nvPicPr>
        <p:blipFill>
          <a:blip r:embed="rId1"/>
          <a:stretch/>
        </p:blipFill>
        <p:spPr>
          <a:xfrm>
            <a:off x="1440" y="811080"/>
            <a:ext cx="91411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emur of the cat"/>
          <p:cNvPicPr/>
          <p:nvPr/>
        </p:nvPicPr>
        <p:blipFill>
          <a:blip r:embed="rId1"/>
          <a:stretch/>
        </p:blipFill>
        <p:spPr>
          <a:xfrm>
            <a:off x="198108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487692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oot and ankle of the cat"/>
          <p:cNvPicPr/>
          <p:nvPr/>
        </p:nvPicPr>
        <p:blipFill>
          <a:blip r:embed="rId1"/>
          <a:stretch/>
        </p:blipFill>
        <p:spPr>
          <a:xfrm>
            <a:off x="1857240" y="0"/>
            <a:ext cx="46198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Hand of a human skeleton"/>
          <p:cNvPicPr/>
          <p:nvPr/>
        </p:nvPicPr>
        <p:blipFill>
          <a:blip r:embed="rId1"/>
          <a:stretch/>
        </p:blipFill>
        <p:spPr>
          <a:xfrm>
            <a:off x="14400" y="449280"/>
            <a:ext cx="9117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Radius and ulna of the human"/>
          <p:cNvPicPr/>
          <p:nvPr/>
        </p:nvPicPr>
        <p:blipFill>
          <a:blip r:embed="rId1"/>
          <a:stretch/>
        </p:blipFill>
        <p:spPr>
          <a:xfrm>
            <a:off x="2793960" y="11160"/>
            <a:ext cx="35560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xial/appendicular (choose one) skeleton is more important for movement in f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xial/appendicular (choose one) skeleton is more important for movement in tetrap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rmal or Replacemen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p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teb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v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m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ic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temp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en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imilar appendicular anatomy in crossopterygian, ichthyostegid and amnionte"/>
          <p:cNvPicPr/>
          <p:nvPr/>
        </p:nvPicPr>
        <p:blipFill>
          <a:blip r:embed="rId1"/>
          <a:stretch/>
        </p:blipFill>
        <p:spPr>
          <a:xfrm>
            <a:off x="119160" y="1185840"/>
            <a:ext cx="8905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leshy finned fish and early tetrapod have similar bone structure in appendages."/>
          <p:cNvPicPr/>
          <p:nvPr/>
        </p:nvPicPr>
        <p:blipFill>
          <a:blip r:embed="rId1"/>
          <a:stretch/>
        </p:blipFill>
        <p:spPr>
          <a:xfrm>
            <a:off x="0" y="1066680"/>
            <a:ext cx="8839080" cy="464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 and Tren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o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diversification dis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d number of b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Axial skeleton used primarily for movement of fish"/>
          <p:cNvPicPr/>
          <p:nvPr/>
        </p:nvPicPr>
        <p:blipFill>
          <a:blip r:embed="rId1"/>
          <a:stretch/>
        </p:blipFill>
        <p:spPr>
          <a:xfrm>
            <a:off x="1657440" y="17640"/>
            <a:ext cx="582912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etrapods using appendages primarily for movement"/>
          <p:cNvPicPr/>
          <p:nvPr/>
        </p:nvPicPr>
        <p:blipFill>
          <a:blip r:embed="rId1"/>
          <a:stretch/>
        </p:blipFill>
        <p:spPr>
          <a:xfrm>
            <a:off x="1541520" y="17640"/>
            <a:ext cx="60609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Early tetrapod shown as a salamander with limbs very laterally placed.  Placental mammal has more medially placed limbs."/>
          <p:cNvPicPr/>
          <p:nvPr/>
        </p:nvPicPr>
        <p:blipFill>
          <a:blip r:embed="rId1"/>
          <a:stretch/>
        </p:blipFill>
        <p:spPr>
          <a:xfrm>
            <a:off x="1440" y="1182600"/>
            <a:ext cx="91411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30:09Z</dcterms:created>
  <dc:creator>Infotech</dc:creator>
  <dc:description/>
  <dc:language>en-US</dc:language>
  <cp:lastModifiedBy>Hays, Clare</cp:lastModifiedBy>
  <dcterms:modified xsi:type="dcterms:W3CDTF">2020-08-13T18:21:03Z</dcterms:modified>
  <cp:revision>22</cp:revision>
  <dc:subject/>
  <dc:title>BIO 2310  </dc:title>
</cp:coreProperties>
</file>